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2EC-0DC8-4E69-A6A0-08262403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406-999C-48E8-BE7E-A97512AB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C97-0187-4F72-AC5E-49C45898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EF4B-0574-4380-A28C-28816088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6B7C-D765-410C-A3A2-902B8EC0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4E8-743D-4222-8EFC-19C05CBB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E46-F4E8-4572-8317-65586D3E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AC9-BE83-48D7-8C00-74CF5154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C0E-EE33-483D-B627-1A6B0954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BB3-7356-4D09-AA9D-CE1D72F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306-2C9D-447D-86D8-9E6B6170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03D-EA3A-4E28-87F3-0691A549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449-C7DC-4F6E-AEE1-794B9745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1A9-F00D-49B2-899C-325A8927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85B-3BF8-4117-AAB8-8B916BF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E86-15DC-4B5A-9393-B9A8AC9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FDB-2C56-4903-9AB1-E761BB9A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C557-2D27-4966-ADC2-567FF39AF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ts.tlt.psu.edu/learningdesign/audience/howpeoplelear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33520" y="22860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and Problem  Base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s with an “ill-structured” problem  (the scen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just enough information to entice students but not gu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esting to the student to capture their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 age appropriate and scaffold for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 curriculum and standard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always need more information that what is initially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is no right or wrong ways to study a problem. The process sometimes dep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problem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blem and the direction may change as information is col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no right or wrong solutions only good and poor cho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533520" y="53352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and Problem Base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italizes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tudent Intere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real-world problems (start loc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“process” approach rather than a “content”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acquire knowledge by using processes such as exploration, resear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and problem based learning have many simila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 learn to formulate problem stat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velop action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duct information sear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d and appl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ork collaboratively with others both within the school and outside th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rive at conclusions and communicate finding to others (shared knowledg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533520" y="53352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and Problem Base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successfully by students as early 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de (inqui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tudent centered and teacher facilitated. Students take the lead in plan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ing, tacking and completing the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s students connect new information  to concepts they already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often used as an engagement tool connecting  relevance to content and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tandards based, but not all of the standards may be completely known at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eacher must be willing to work with a degree of vagueness and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s for student learning beyond the walls of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s web 2.0 technologies  and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04920" y="457200"/>
            <a:ext cx="784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scoll (2002) proposes the following principles for how people lea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occurs in contex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rning must happen within certain context. Without an appropriate setting, learning is unlikely to succ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is a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"Tell me, I forget. Show me, I remember. Involve me, I understand." This Chinese proverb suggests that learners have to be mentally active during learning activities, make connections between the new knowledge and existing knowledge, and construct meaning from their own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is soci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rners benefit from working collaboratively in groups so that they can hear different perspectives and accomplish the learning tasks with the help of their peers and expe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is reflectiv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is facilitated when learners are given chances to express and evaluate on their own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 State Learning Design Community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ts.tlt.psu.edu/learningdesign/audience/howpeoplelea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12:54Z</dcterms:created>
  <dc:creator> </dc:creator>
  <dc:description/>
  <dc:language>en-US</dc:language>
  <cp:lastModifiedBy> </cp:lastModifiedBy>
  <dcterms:modified xsi:type="dcterms:W3CDTF">2011-04-27T15:18:36Z</dcterms:modified>
  <cp:revision>66</cp:revision>
  <dc:subject/>
  <dc:title>Slide 1</dc:title>
</cp:coreProperties>
</file>